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F7FD60B-FBB5-4D50-8533-86EC24E67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6C77CE-FEE9-4DB0-B8D0-E30774AAD5E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228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40CDA73-B4A0-4E46-99F2-2E3322311A0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AB7EB4-2EE7-4D02-8282-7C6EAC067EB7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C7A4154-8A1F-4734-AC94-B190BC2439DE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4268C9-F2A3-41A1-84ED-12B01263710F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3A0504-F45A-4269-88E7-2A42ABC0C6DE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26640" y="4379400"/>
            <a:ext cx="507996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20091D-01DA-4E10-8F10-43B10E8FD226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8C53E1-7C87-4618-BA84-5258AFD11AC8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A37B465-FD3C-49CD-8DBF-5DE7C26B0E1C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DE2455-396B-49B0-BA27-2653D3269F59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1C3FCE-D1A1-4B9A-ABF9-D6BD0B4A6A49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459F7C-5D37-4886-BC00-E9CC059BE2F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2959328-A699-41CF-BB9E-B34FBA1DF0E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D2CA0A7-614D-4774-9043-2FDB273D8898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1440" y="69840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5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3EB-9624-44F3-8FC0-8D5319A9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312-1CCE-4CF7-B52C-5F4715E9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40B7-3E31-45A1-8F8B-F2537B73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3BFA-0682-4189-A12D-5FE326B5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3383-284D-461D-9D41-C7829F57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BFDD-5B3F-46AD-B15B-7C2B7214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800E0-6722-43CF-99E5-CBB92F3A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889D-412F-4E3F-AF52-A08CDF06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585-3AAA-4184-ACC8-28044557C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6E0D-3DEF-4A20-A82B-2AFF6798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5A56-6221-497B-9C8B-0C4F3034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2C5-0BA6-4820-A53F-4DF76495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7634-D678-4DF6-8A93-BC311385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C6B1-DD2C-4A9B-AE38-697D5D69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CE3C-9893-4BE2-92F9-7E51E137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3464-7CCF-469D-9D75-C17366ED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52388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1212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E637-5917-4BEC-9FB8-199243D3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9147-A2CD-4ED5-B227-81D442B2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E88-4FDB-4DE2-AAC4-1662DA65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786-0866-4485-BB52-1A1F1A0F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1416-84BB-4667-83FA-3491246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8C1-C9CF-4A63-BE21-70748458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1212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442-EA9B-4FDC-A6F5-F5DEB8F0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52388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1212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2B4-F437-4E10-895D-8A15E1D3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E22D-54CF-4B7C-BF04-59942469A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5238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61D5-3949-4B91-A9FC-3A516CB0A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4724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90000"/>
              </a:lnSpc>
              <a:spcBef>
                <a:spcPts val="6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04920" y="53352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veloping a Strong Resilient Child: 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Key Successful Step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3520" y="289548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Juan Carlos Araque, Ph.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E84E-59CC-4015-831D-256CDE38546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4756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udies have associated Commitment-to-Learning assets directly or indirectly with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reased high school comple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creased enrollment in colleg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er grad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gher achievement test sc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tter attendan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s sexual intercourse and childbear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ss drug u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ewer conduct probl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cademic Achievement and Asset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1219-46DD-41DB-98C2-3FCC395E508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From . . .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	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	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	</a:t>
            </a:r>
            <a:r>
              <a:rPr b="0" lang="en-US" sz="3400" spc="-1" strike="noStrike">
                <a:solidFill>
                  <a:srgbClr val="006666"/>
                </a:solidFill>
                <a:latin typeface="Arial Unicode MS"/>
              </a:rPr>
              <a:t>To . . .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’s problem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’s strength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Professional’s work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Everyone’s work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 absorb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Young people 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resources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resour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Troubled young peop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All young peopl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Accountable only for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Accountable as well f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own behavio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ther adults’ behavi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Incidental asset build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Intentional asset build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Blaming other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* Claiming responsi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sset-Building Differenc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9E15-0ADE-4157-97AD-F54BC2D215A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057400" y="21337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26080"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00"/>
                </a:solidFill>
                <a:latin typeface="Arial Unicode MS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rate awarenes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ess resources, students’ asset levels,   and current asset-building activ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oritize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m relationships that build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eate an asset-rich environ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 programs and practices to build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26080" indent="-226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stain asset build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28800" y="1447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a leadership team that will begin to shape a vision and formulate a pla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59984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sset-Building Proces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6229-B141-4CCB-BE66-2700327A160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05120" y="20570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ff in hallway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oors ope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 staff and volunteers train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all friendliness the nor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ets post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udents involved in building asse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sets part of evaluation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hysical environment warm and invit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reating an Asset-Rich Environment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FB76-9C4B-4BD9-B438-94E4D111808D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957320" y="2066760"/>
            <a:ext cx="6392880" cy="40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oking at your schools programs, which developmental assets are you already building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ch assets does your school and/or programs already promoting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1800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w can I use these programs and practices mor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intentionally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o build assets?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spcAft>
                <a:spcPts val="1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Thinking on Your Current Program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nd Practices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4E10-FF56-4D1F-84B2-45215DBDC24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520" y="1447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Results from the two-year developmental asset project in La Habra, Orange County</a:t>
            </a:r>
            <a:br>
              <a:rPr sz="2800"/>
            </a:br>
            <a:br>
              <a:rPr sz="3600"/>
            </a:br>
            <a:endParaRPr b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9840" y="51055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PI STUDY: 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CADEMICS AND PREVENTION INSEPARABLE REPORT AVAILABLE IN PDF FORMAT AT: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ww.ocde.us/assetbuilding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719E-4AE5-4D9A-A358-86D86170EB8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6091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cademic Performance Index Score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Experimental:  Elementary + 66 points        Control:  Elementary - 17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Middle + 23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              Middle +16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1752480" y="2286000"/>
          <a:ext cx="7086600" cy="422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2286000"/>
                    <a:ext cx="7086600" cy="42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693-B46C-4058-974D-BDA1F58307F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Youth Development Framework Review  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2240" y="1828440"/>
            <a:ext cx="778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ilot program 2000-2002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ange County Health Care Age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ange County Department of Edu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 Habra City School Distri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ity of La Habr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 Habra Resource Cen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a Habra Chamber of Commerc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th development defined by Karen Pittman (1990)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Youth development is the ongoing process in which young people are engaged in building the skills, attitudes, knowledge, and experiences that prepare them for the present and the future”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AF03-027C-4032-AFEB-E7F03027AED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90920" y="3123720"/>
            <a:ext cx="579096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SSESSMEN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D1CC-2676-4090-A2E4-87F51FB1CC5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9144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rea of Implement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7391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1999, the FBI identified the area of implementation as the most violent city in Orange County with 9.2 violent crimes per 1,000 people.  There were 127 juvenile arrests of which 64% were drug related and 20% gang related crim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A4E5-66DF-4424-A3AA-223CEB10F93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93" name="Content Placeholder 5" descr="Lakers kids.JPG"/>
          <p:cNvPicPr/>
          <p:nvPr/>
        </p:nvPicPr>
        <p:blipFill>
          <a:blip r:embed="rId2"/>
          <a:stretch/>
        </p:blipFill>
        <p:spPr>
          <a:xfrm>
            <a:off x="1676520" y="6858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0E8D-ACE2-4EB4-80E0-CA2BBAD21A5B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762120"/>
            <a:ext cx="6805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Participating Schoo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mographic Composi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xperimental Grou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WO schools: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elementa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middle schoo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span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70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    24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ia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lack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glish Learners     78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51200" y="1599840"/>
            <a:ext cx="4492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ontrol Grou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TWO schools: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elementary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ONE middle school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spanic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63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3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sia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lack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nglish Learners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7A73-52FD-4C43-8899-74AA536E5292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e-tests (survey, focus groups, and interview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udents 1,500 (experimental and control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wo student cohorts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eachers 300 (all participating schoo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ents (PTA representatives in two schoo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ty members (city officials and community-based organization representative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3F83-881C-479A-947C-8B5A5FE492DD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920" y="3131640"/>
            <a:ext cx="533376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OAL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8812-8F71-48E9-8E44-20AFCB6BE76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4760" y="609480"/>
            <a:ext cx="6737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920" y="220932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ttended the youth development conference in the Summer of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med the Core Team: Students, educators and community members to lead projec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ablished ongoing teacher training opportunities: Meeting teacher nee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troduced the video production class (electiv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ed on parent involvement: Reading, math, conflict resolution, and paren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hadow day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9AE8-5BF2-4EAD-81F5-8FF25611E97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A.P.I. Study: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93520" y="2889360"/>
            <a:ext cx="6816600" cy="26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Unicode MS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ESEARCHED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Programs and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Promising Practice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EBFB-6A65-412D-825F-6F3740AB944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Youth Development Model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-15228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814400" indent="0">
              <a:spcBef>
                <a:spcPts val="601"/>
              </a:spcBef>
              <a:buNone/>
              <a:tabLst>
                <a:tab algn="l" pos="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ltiple theories of frameworks defining youth development have surfaced over the last decade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814400" indent="0">
              <a:spcBef>
                <a:spcPts val="601"/>
              </a:spcBef>
              <a:buNone/>
              <a:tabLst>
                <a:tab algn="l" pos="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se includ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Supports and Opportuniti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Youth Competencies and Need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Resiliency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</a:rPr>
              <a:t>Integrated Approach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3" marL="2157480" indent="-609840">
              <a:spcBef>
                <a:spcPts val="45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Unicode MS"/>
              </a:rPr>
              <a:t>Developmental Asset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5562720" y="3328920"/>
            <a:ext cx="3429000" cy="2691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split dir="in" orient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AF7-D9A1-46D3-ACDC-872A399A526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Promising Practices Alignment with Asset-Building Framework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Youth and adults in the school site voted to implement the following assets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rvice to Others - Asset #9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outh Programs - Asset #18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chievement Motivation - Asset #21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ding for Pleasure - Asset #2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aceful Conflict Resolution - Asset #36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DBBE-1352-4124-A4EF-6B4DC57796A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set # 9: Service to Other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518080" y="2444760"/>
            <a:ext cx="3245040" cy="34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adership and community service projec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ach classroom completed at least one project 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2"/>
          <a:stretch/>
        </p:blipFill>
        <p:spPr>
          <a:xfrm>
            <a:off x="1650960" y="2209680"/>
            <a:ext cx="3835440" cy="28767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0" name="Rectangle 5"/>
          <p:cNvSpPr/>
          <p:nvPr/>
        </p:nvSpPr>
        <p:spPr>
          <a:xfrm>
            <a:off x="4335480" y="1797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52480" y="4998960"/>
            <a:ext cx="373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y parents have adult conversations with me, they don’t talk to me like I am a little kid.” - Studen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658C-5629-40F5-B120-A7B4B1EC1F0B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set # 18: Youth Program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47920" y="18288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unch Bunch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lti-media curriculu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YDF Newslett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ddle school student-led parent conferen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oices of change ev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arent shadow da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ross-age mentoring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5562720" y="3886200"/>
            <a:ext cx="3352680" cy="25146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6" name="Text Box 5"/>
          <p:cNvSpPr/>
          <p:nvPr/>
        </p:nvSpPr>
        <p:spPr>
          <a:xfrm>
            <a:off x="7086600" y="2128680"/>
            <a:ext cx="17524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[I am] self-motivated to get homework, [YDF] taught me responsibility”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 Stud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410080" y="1523880"/>
            <a:ext cx="175284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YDF agenda has put parents and teachers on the same page”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-Parent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B74D-4E76-4793-82EC-02F671F8C2FC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Asset # 21: Achievement Motiv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2520" y="266688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visible mentor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going teacher trai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ideo production cla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usic conte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600200" y="487692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e students love YDF. It gives them a safe and productive environment.” -Teacher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2"/>
          <a:stretch/>
        </p:blipFill>
        <p:spPr>
          <a:xfrm>
            <a:off x="1523880" y="2286000"/>
            <a:ext cx="3429000" cy="2571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D2E8-6210-4736-BC49-1583E549CAFE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599840" y="1752480"/>
            <a:ext cx="716292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view the research on positive youth development and resiliency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amine the relationship between developmental assets, academic achievement, and prevention of high-risk behavio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dentify practical strategies for increasing developmental assets with young people and staff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gin developing a school-wide and/or community-wide plan to initiate the implementation of asset building to increase academic achieve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2133360" y="5335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Objective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3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9210-C2D6-4258-8190-03F07742722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Asset # 25: Reading for Pleasure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4038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ddle school reading progra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lementary school-wide reading progra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ding and mathematics evening workshop for students and par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5562720" y="3124080"/>
            <a:ext cx="335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YDF gave me a feeling that teachers had more trust in me.” - Student</a:t>
            </a: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3504960" cy="2743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0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6B73-12F8-4D0A-BBF7-D3132AA061F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143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A.P.I. Study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cademics and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reventio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 Unicode MS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 Unicode MS"/>
              </a:rPr>
              <a:t>nseparable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</a:rPr>
              <a:t> Five findings are statistically significant (p &lt; .05)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udents in the control group showed: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decrease in commitment to learn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udents in the experimental group showed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gnificant increase in their test scores and commitment to learning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nection with teachers, school, and commun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eater feeling of safety in scho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1023840" indent="-585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eachers’ attitude toward their work environment and level of involvement with youth showed improvement when promoting a positive “school culture” and empowering students at their schoo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0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BEB2-28AF-436C-81A3-EFDF3B024851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52480" y="4568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Key Finding for Elementary Student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295280" y="2743200"/>
          <a:ext cx="7848720" cy="373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2743200"/>
                    <a:ext cx="78487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4"/>
          <p:cNvSpPr/>
          <p:nvPr/>
        </p:nvSpPr>
        <p:spPr>
          <a:xfrm>
            <a:off x="1676520" y="1600200"/>
            <a:ext cx="701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-test show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 out of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udent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ike to learn 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test show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9 out of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udent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like to learn 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 increase of almost 30% from pre to post tes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4FF-EF4D-4171-9128-7F25D2EBB55F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6858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Elementary School Evalu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1600200" y="1816200"/>
          <a:ext cx="7543800" cy="45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816200"/>
                    <a:ext cx="754380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1B87-F1D8-4F14-85EA-1EB21D849268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Elementary School Evaluation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1905120" y="1844640"/>
          <a:ext cx="7162560" cy="4672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844640"/>
                    <a:ext cx="7162560" cy="46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08B2-FC6F-457E-AC74-30556D402DE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00200" y="19810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AMI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istory, management, attitud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w expect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ienation, friends, attitudes, early first u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HO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licy, availability, labeling, moving, failure, involvement, truanc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16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verty, involvement, availability, nor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057400" y="457200"/>
            <a:ext cx="6019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Risk Factor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4080" y="28191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</a:rPr>
              <a:t>What was there for you?</a:t>
            </a:r>
            <a:endParaRPr b="1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6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E892-6DB5-4B0F-A45A-F332494A5EA0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Categories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Developmental Asset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882800" y="2065320"/>
            <a:ext cx="3147840" cy="40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EXTERNAL ASSE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oundaries and Expect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4040" indent="-28404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tructive Use of Ti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46600" y="1989000"/>
            <a:ext cx="30196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Unicode MS"/>
              </a:rPr>
              <a:t>INTERNAL ASSETS</a:t>
            </a: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itment to Learning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sitive Valu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ocial Competenc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5000"/>
              </a:lnSpc>
              <a:spcBef>
                <a:spcPts val="1650"/>
              </a:spcBef>
              <a:buClr>
                <a:srgbClr val="000000"/>
              </a:buClr>
              <a:buFont typeface="Arial Unicode MS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sitive Ident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8AF7-EBBE-4479-8698-6A09EBC608E6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1371600" y="19051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9051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4"/>
          <p:cNvSpPr/>
          <p:nvPr/>
        </p:nvSpPr>
        <p:spPr>
          <a:xfrm>
            <a:off x="19051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248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High Risk Behaviors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0668-E41A-4DCE-9F24-32842D034723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576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Black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533520"/>
            <a:ext cx="6172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Positive Outcomes</a:t>
            </a:r>
            <a:endParaRPr b="1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1676520" y="1523880"/>
          <a:ext cx="7238880" cy="434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523880"/>
                    <a:ext cx="7238880" cy="434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02BE-F2F6-4FAC-9BBC-A41A42021094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514600" y="54864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elvetica Black"/>
              </a:rPr>
              <a:t>(Percentage of youth with each level of assets)</a:t>
            </a:r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538280" y="1295280"/>
          <a:ext cx="6919920" cy="4370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8280" y="1295280"/>
                    <a:ext cx="691992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6858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The Gap in Assets Among Youth</a:t>
            </a:r>
            <a:endParaRPr b="1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22:11:55Z</dcterms:created>
  <dc:creator>Kelly Foley</dc:creator>
  <dc:description/>
  <cp:keywords/>
  <dc:language>en-US</dc:language>
  <cp:lastModifiedBy>John Doe</cp:lastModifiedBy>
  <dcterms:modified xsi:type="dcterms:W3CDTF">2011-05-10T05:12:40Z</dcterms:modified>
  <cp:revision>58</cp:revision>
  <dc:subject/>
  <dc:title>Welcome to  A.P.I. Study: Academics and Prevention Inseparable     Presented by  Juan Carlos Araque, Youth Development Coordinator    2004 Hawaii International Conference on Education Saturday, January 3, 2004  Orange County Department of Edu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875731033</vt:lpwstr>
  </property>
</Properties>
</file>